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BED-2873-4789-BE23-2EE70098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910-73E3-4330-9273-FEAC9CD7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5F0-A0D3-4CDF-BE4F-B3BCEAD1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074-0C50-4668-B546-7F030A4C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8E7-FF62-4B25-8381-18BE5788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FB3-B055-4981-9A41-DA712CDC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4DC-EB17-4059-9065-4542607A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A6E-8350-48AC-A203-EBB367B4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E0E-261D-45B0-A1B0-96CB4914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152-E372-44B8-AB94-4DFECB79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155-A8B2-4DB6-8273-F0CC8AD9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3AF-12B2-4FA7-BEE5-1ADF1D7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C7B3-6921-4276-B9E6-2CC1568987B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46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man Lu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á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knowled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05T06:17:08Z</dcterms:modified>
  <cp:revision>150</cp:revision>
  <dc:subject/>
  <dc:title>Alphabets, Strings, and Languages</dc:title>
</cp:coreProperties>
</file>